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B625-034A-4E1C-8790-43C522DC2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2FC9-3550-4CF5-946A-911B642F107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ACBD-7CF2-4FB4-8D99-CF321BFA34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8EF3-787B-4FAC-99D1-D4C1327BA2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77AB-4694-4F13-9F7E-1CD651606F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8159-B1A4-4BC7-9E1E-17C6CEBE78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BCA0-6D68-41A5-A6B0-7E922B489B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26EC-A171-4264-ABD5-007136ADC4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16A5-4FA4-4735-A579-C887E541D3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4B12-F280-4064-B271-857D3B84C5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9940-F49C-4B1E-9313-621C8AB810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0EF4-C57F-4499-96C5-DA2E0C0B2F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176C-452A-4705-AE01-3FCEE3F7AA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BC4E-ECA7-46C7-9972-4142B0FDF4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0B04-13B4-4388-87EF-04FE00B55F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E615-B1C1-4F92-A0BF-3A5276F8A0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4CEB-C909-4018-89EC-F56B66BE73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36D2-EB00-471A-8E4A-B939F4F9AF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BD1A-BD82-4FDE-8392-D94C76FE73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EB1C-9428-4986-9E54-4FB775FCFB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84BE-C6E0-4313-9CE5-1F459F8288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418B-5C9B-47FA-BA96-22E83F9D80F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67B6-44FA-4DD2-8EB2-15FB3098AD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C15F-EAFE-416F-8697-DD76A489DF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A7D9-54A7-4C63-89D2-8FE7D4896F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E706-57A7-4152-87C7-888563A00A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3589-6886-4758-B8AD-BF5A7F66EE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1E0D-8E84-4019-AE7D-7EF818A2BC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FE3A-79AA-41D3-BB5F-D1214BA10E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0ECD-A175-4949-AAF3-652DC17449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DDD7-3157-4478-9C93-E9E3F7B25E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8FC5-C01D-4990-9353-806A0C0851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2A57-857E-4577-8C99-0596794FB1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7B63-1B5C-43CE-8CCC-E335D4F738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F41C-8AE9-43CF-B2DC-37A3A22D18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7B8B-59EA-4BB6-9E0F-0F72EC082D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A5EA-4AB9-46D5-BBA6-500662D4EE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9D2F-F289-47E3-8799-5B5612162EC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6424-0732-482E-BF27-52552DEF73F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B7D4-BED4-46AC-AC8E-8133FFC2A5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1516-E2DC-48F0-A207-CFA9210956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33D5-7007-4480-A410-55F79D5427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D895-7C24-49D0-A87C-2C78446C703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96AC-988A-473A-9BA5-BFAADFB6DC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4A9E-67C5-4642-86B0-5973E424913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F250-18E8-41E7-B4FB-631B91B856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B941-0E8E-46C2-9844-10975EBF95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1D3B-BEF4-4628-8B46-1AAEFA26EE2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53DB-A1AE-4AB6-BE87-02DFADDCF7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7A8A-5ACD-412F-B5F9-D3AA2D5CB8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FF8D-3248-4D3A-A304-D1EF0283EF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A3C5-8C55-4FCE-9EDD-D5A091F16B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353F-3395-44CB-8AD4-A13B87B782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EBE9-4DC8-4817-ACCA-A7EA8479E29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556-91D2-41A6-AC6A-952A1C62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BC6-A9F5-4442-BAE5-9121A3C9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F17-6CAA-4CCF-BFDD-D03E90A3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644-83DA-4D3A-A4D4-FF513177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F38-C677-46CF-975C-CFAF12AB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87F-502F-4ED4-A027-0A94A68F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8F8-EBC6-42F3-BAD0-E5C90B51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BE6-BD5F-491D-A3CF-F2D0E24F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F72-7350-4121-9F5B-77EBF0D4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09F-CCD8-4B12-9576-4632414E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A45-AB9D-4F2E-8C71-31B136F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5CA-C437-4F8F-9D61-3B3199DE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0FAF-189E-4A11-A7AE-96B00166C37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1-09-29T12:20:19Z</dcterms:modified>
  <cp:revision>117</cp:revision>
  <dc:subject/>
  <dc:title>Aims and Objectives</dc:title>
</cp:coreProperties>
</file>